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42EF-2B03-40B3-94E7-CF79EF268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49D-9178-4176-A08D-3C49BB277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C545-8D9C-4622-B230-A0FBA1B03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0A5-258C-4E6A-A037-446904AD3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8E4-CB4D-4D68-B9A4-2F29099AC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140-2827-401D-9B63-73700819D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FDA-FDAF-43E8-857D-BC527F3ED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E33-2A2C-49B0-977A-BB4544620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0F3B-A059-4E57-9266-AE7F33F7D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4A1-21D3-460C-9E00-9B283A1E4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331-9234-46D7-B2FD-2F3B2C44B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639-BA87-46FC-9317-D102147A9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C98-2068-4817-B481-2858B6CAA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D2F-C386-4CBF-A5F9-90B70FEA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625-55C0-4366-B445-1CEDC63A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666-7E5C-4D84-8F1B-0F176F5F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E69-9CFF-4B07-A077-45351635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6115-BA69-4235-95A1-CF3C1949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14A-6259-428D-A88B-CD40C88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269-8982-4657-8A89-42DC83D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4311-BE62-4530-86E6-0EB0210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2606-7DF3-4132-9DD6-BC3D819C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AC5A-94E3-4580-9B34-F95B1DD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02F-F698-45EB-99E1-18FAAC0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826-14FE-42F0-A4FA-BB1B2D1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78A-F272-4F0E-937C-0798359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A959-F980-4F3D-9E13-FCA5A6D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2D8D-038C-48E9-A5C4-F924755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4955-5FA5-4B98-B9A6-62DF185C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D71B-9DB0-4FC6-ACE8-A5FF8526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1158-2BEE-4219-905E-5AFEF94E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C32F-0BC4-4965-A57E-40C6CF0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AB86-227B-42E2-A40A-E0B13D1F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EF69-E22B-44FF-8996-BCD94507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A21F-E05A-4A9C-A9EC-184128A6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F18-C17A-4741-8090-F6DD443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E193-D2C1-4FF9-BDAA-4E0BBB9D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28C8-28BA-475F-A0C9-45ED2AA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FEF9-D709-491A-B47A-38FF6C3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7963-95E1-41FC-8D0B-603A18F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9987-6DCC-4915-85AE-5661A73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1AE6-A9D9-44D3-AD7E-6910B768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2EC6-FBD3-4B55-8521-6448231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7E174-F43D-41C3-B77F-F44BDA96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5773F-CCF1-4DE6-AA89-032F96F9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927A6-CEA0-47D4-A550-CE1EA00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990-24C4-4F73-A09E-69B9FDBB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40856-3B7A-4771-AAA0-0CABA08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A4162-712C-45A3-A4FA-19C41629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59EBB-F3B7-4DAA-AB11-363A57E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16C95-112D-4D48-A937-EB43754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01BC8-6E1B-4629-8981-5B60256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AA355-0816-4F4F-B298-67C9EBA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C4561-11BE-4577-AAB2-486293E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8F3CB-F407-48C1-AD52-04CB673B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5FEB4-162F-4186-BA4C-91963CA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D8676-9E62-41E3-993E-B54D0B98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B82-4E2F-4060-8107-63ED55F3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7C79B-AFE9-4C57-8683-B34B7746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30D87-4900-47B0-8483-0B0A1CFE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BBBAF-A91C-4D42-BF04-816949D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D5821-A1AA-4359-9B2A-2162B704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67741-2534-411D-A6FE-46A8A0FF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4A750-05A5-4B6F-859F-FDC4E15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B2F46-759B-4DFE-AD92-B118C20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A9340-8763-4838-B038-6BD0546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23489-47AE-4128-9D9C-04B444F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737C5-BD37-457E-B3AC-4B2BE4CE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92A-03A6-41DF-8C4B-816D9BB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E6466-5314-42D2-B89E-B6E2D44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389DD-51E5-4EE9-8E17-16C07BA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42ACD-32D1-4F68-8F1F-9B35A44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B0A7E-EB65-432A-93E0-7B52A7F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6E2F7-6874-42CE-A6E1-088C46F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B6586-F6DA-4A35-B0C8-3DC6A1F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E4C23-DB45-4A49-B355-7E9BA82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8ADDE-7173-4C14-BD44-8FF7489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8F820-DA62-4184-B40C-9DDB735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AAD6A-F210-48E9-AAF8-8CB77C2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B6B-CA8C-4A10-B919-053717B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90B2B-4C66-4A24-AEBE-9BF489A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DFB31-E110-4764-8783-7A83484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51FA7-08F3-4B8A-857E-F7E1B896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FBF-3E60-4F81-A944-EAB1A97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86F-C8CC-47E8-B073-79CD3F9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837-9924-48F1-B111-1EDC18D6BCB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91C9-9290-4F17-B61A-403EDFEF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98A-D8B7-47B8-9FA8-FABB6515CF5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D8E-5C5F-4B5C-8EBD-439650BD65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362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2F0-5860-4D55-A9D0-461BA95AAEA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367320"/>
            <a:ext cx="42609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85A-13A4-425E-86C8-4C7585DF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048A-E590-44E4-96AB-2F64B72465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1AA-9FA5-413B-9975-78DDA150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0558-50DD-4D0F-82AF-8C3A498721A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36BC-FE3C-4C10-BD00-4017F1B59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3BC-7395-4A1F-940D-856FDEBD4BF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7FD-14CC-4D2F-995A-A3702118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8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tterendings.org/homeschool/Words/Root%20Words.htm" TargetMode="External"/><Relationship Id="rId2" Type="http://schemas.openxmlformats.org/officeDocument/2006/relationships/hyperlink" Target="http://www.betterendings.org/homeschool/Words/Root%20Word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hierarchy+chart&amp;FORM=IGRE&amp;qpvt=hierarchy+char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entury Gothic"/>
              </a:rPr>
              <a:t>Linguistics </a:t>
            </a:r>
            <a:br>
              <a:rPr sz="4400"/>
            </a:br>
            <a:r>
              <a:rPr b="0" lang="en-US" sz="4400" spc="-1" strike="noStrike">
                <a:solidFill>
                  <a:srgbClr val="444d26"/>
                </a:solidFill>
                <a:latin typeface="Century Gothic"/>
              </a:rPr>
              <a:t>Praxis Terms &amp; Topics</a:t>
            </a:r>
            <a:endParaRPr b="0" lang="en-US" sz="4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Dr. Melissa Com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Associate Profess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Tennessee Tech Univers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4" descr="TTU.jpg"/>
          <p:cNvPicPr/>
          <p:nvPr/>
        </p:nvPicPr>
        <p:blipFill>
          <a:blip r:embed="rId1"/>
          <a:stretch/>
        </p:blipFill>
        <p:spPr>
          <a:xfrm>
            <a:off x="5791320" y="4724280"/>
            <a:ext cx="1257120" cy="952560"/>
          </a:xfrm>
          <a:prstGeom prst="rect">
            <a:avLst/>
          </a:prstGeom>
          <a:ln cap="sq" w="444600">
            <a:solidFill>
              <a:srgbClr val="e7bc29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otional-functiona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s arranged around the notion that people use language to communicate in a particular contex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nction is a specific purpose for a speaker in a given contex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 the ‘notion’ of shopping requires numerous language functions (price, warranty, product description, etc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9" name="Footer Placeholder 9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ontent Placeholder 3" descr=""/>
          <p:cNvPicPr/>
          <p:nvPr/>
        </p:nvPicPr>
        <p:blipFill>
          <a:blip r:embed="rId1"/>
          <a:stretch/>
        </p:blipFill>
        <p:spPr>
          <a:xfrm>
            <a:off x="749160" y="1427040"/>
            <a:ext cx="7632720" cy="46198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08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comparative adjectives and superlative adjective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negative transfer? (think L1application to L2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blends and digraph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a weak reference?  (think pronoun/antecedent relationship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a relative pronoun and a demonstrative pronou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hink about it. . .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3" descr=""/>
          <p:cNvPicPr/>
          <p:nvPr/>
        </p:nvPicPr>
        <p:blipFill>
          <a:blip r:embed="rId1"/>
          <a:stretch/>
        </p:blipFill>
        <p:spPr>
          <a:xfrm>
            <a:off x="365040" y="1268280"/>
            <a:ext cx="8255160" cy="40467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Linguistics. . . Simplified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sounds in English are typically problematic for ELL speaker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n ESOL student says, “I have 2 pen.”  Which English morpheme has the student not yet acquired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are the 8 parts of speech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re are 4 basic tenses.  What are they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active and passive voice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ame the 4 types of sentenc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hink About It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ontent Placeholder 3" descr=""/>
          <p:cNvPicPr/>
          <p:nvPr/>
        </p:nvPicPr>
        <p:blipFill>
          <a:blip r:embed="rId1"/>
          <a:stretch/>
        </p:blipFill>
        <p:spPr>
          <a:xfrm>
            <a:off x="365040" y="1011240"/>
            <a:ext cx="8467920" cy="51404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Figurative Language Example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80880" y="1066680"/>
          <a:ext cx="8382240" cy="3746520"/>
        </p:xfrm>
        <a:graphic>
          <a:graphicData uri="http://schemas.openxmlformats.org/drawingml/2006/table">
            <a:tbl>
              <a:tblPr/>
              <a:tblGrid>
                <a:gridCol w="863640"/>
                <a:gridCol w="1470240"/>
                <a:gridCol w="1554120"/>
                <a:gridCol w="1211040"/>
                <a:gridCol w="1559160"/>
                <a:gridCol w="1724040"/>
              </a:tblGrid>
              <a:tr h="454320"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amp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</a:tr>
              <a:tr h="56664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way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ut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ppend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5396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di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 belief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alis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844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i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ai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i-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 study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808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g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ne who takes part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700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g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p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ia, -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,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nesia, democ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808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pho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aggerated f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ustropho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Prefix/Suffix</a:t>
            </a:r>
            <a:br>
              <a:rPr sz="3800"/>
            </a:b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57200" y="5410080"/>
            <a:ext cx="8077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Century Gothic"/>
                <a:hlinkClick r:id="rId1"/>
              </a:rPr>
              <a:t>An excellent resource for affixes can be found at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http://www.betterendings.org/homeschool/Words/Root%20Words.htm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haracteristics of a sheltered ESL clas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ass has ESL students on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eachers use physical activities, visual aids, &amp; the environment to teach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haracteristics of dual-immersion (2-way immersion)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rogram that brings together native minority speakers with native target speake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oth groups of students, ideally, develop fluency in both languag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What are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78" name="Footer Placeholder 9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457200" y="1219320"/>
          <a:ext cx="8229600" cy="48607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mental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nting to learn a language for the sole purpose of obtaining something (jo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grative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nting to learn a language in order to become part of a speech community (integ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cative compe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nguage user’s grammatical knowledge of syntax, morphology, etc. as well as social knowledge about using utterances appropria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xe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udy of spatial distances between individuals in different cultures and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orld Engl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calized varieties of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thnocentr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lief that one’s ethnic group or culture is 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person singular constr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als with verbs in the present tense; made singular by adding an 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erms to know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67840"/>
            <a:ext cx="86104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ierarchy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structure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shows the relationship of various unit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 u="sng">
                <a:solidFill>
                  <a:srgbClr val="8e58b6"/>
                </a:solidFill>
                <a:uFillTx/>
                <a:latin typeface="Century Gothic"/>
                <a:hlinkClick r:id="rId1"/>
              </a:rPr>
              <a:t>Hierarchy Exampl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3" name="Content Placeholder 3" descr=""/>
          <p:cNvPicPr/>
          <p:nvPr/>
        </p:nvPicPr>
        <p:blipFill>
          <a:blip r:embed="rId2"/>
          <a:stretch/>
        </p:blipFill>
        <p:spPr>
          <a:xfrm>
            <a:off x="755640" y="3541680"/>
            <a:ext cx="7632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10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Grammatica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rranged according to a set of structural rul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t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vides an approach for constructing gramma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22:48Z</dcterms:created>
  <dc:creator/>
  <dc:description/>
  <dc:language>en-US</dc:language>
  <cp:lastModifiedBy/>
  <dcterms:modified xsi:type="dcterms:W3CDTF">2010-04-12T17:44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02131033</vt:lpwstr>
  </property>
</Properties>
</file>